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91B0-EC71-497C-9FA0-7A6A88FFBE7F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4237-D390-4E49-9CC9-9FE8B9555BD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EAFF-DD5A-4BD5-A907-583CAD7D0E3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-78120" y="299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eservation Strategie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Data transfer &amp; submission agreement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nald Weav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 - Importanc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major part of the data preservation process is establishing provenance as well as safe preservation of the actual data bi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transfer/submission agreements are an important link in the provenance and documentation chai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Transfer Agreement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ach Long Term Archive (LTA) has its own pro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t is important that the data provider contact the LTA to understand the ingest pro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initial contact typically includes development of a transfer agreement which outlines the responsibilities of each party (LTA and provider) in the transac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veral websites offer links to more general data management plan development.  We suggest starting with the following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http://esip.esipfed.org/resource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gital Curation Centre Plans (Useful checklist for developing a data management plan) </a:t>
            </a:r>
            <a:r>
              <a:rPr b="0" lang="en-US" sz="20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dcc.ac.uk/resources/data-management-pla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University of California Curation Center (Data Planning Checklist) </a:t>
            </a:r>
            <a:r>
              <a:rPr b="0" lang="en-US" sz="20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cdlib.org/services/uc3/datamanagement/index.htm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ata Management and Publishing (MIT) http://libraries.mit.edu/guides/subjects/data-management/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ata Management and Publishing (Univ of Minnesota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ttp://www.lib.umn.edu/datamanagement/funding#What1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ommon internet search ter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ata management plan”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earth science data management”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xamples of transfer agree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e also “Submission Agreements under For Data Managers”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List modules that are relat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n Weaver</cp:lastModifiedBy>
  <dcterms:modified xsi:type="dcterms:W3CDTF">2012-02-26T16:01:12Z</dcterms:modified>
  <cp:revision>40</cp:revision>
  <dc:subject/>
  <dc:title>ESIP Federation 101</dc:title>
</cp:coreProperties>
</file>